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F10-ECE8-48E9-9A51-06A21369B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FF63-E74D-4B3D-98ED-2BDF3AEDF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56A8-3129-47D5-B092-A691AB48A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correspondence with parents will be in English and their native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D8A-DA25-4A9C-9AA3-AAB6904C9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9755-FD09-4A67-AA58-7E04416BA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D472-A49E-4F0F-BDF6-738E82A64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k or Swim approach isn’t good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9AE-B451-469E-961B-EC2A714C0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2F8-E2E0-4FCB-B1E4-C77F98858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articles described a program called the “Language Camp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C74A-CDEA-40EC-A1D5-84017FE6F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B38-A70D-486E-A4C5-5DE661BA8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6E2-5D1C-4718-8708-D95D0B8F3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353-6361-4633-8604-8ABEB698A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5B9-096B-4099-91A8-8C3DB1E5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EA5-EBF8-4D8B-BFB3-B9BF0951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39C-D043-402A-9AE3-0C1D824E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A7B-4C21-4C69-90B2-D2BDF238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15E-B2B2-4ACE-B0BA-40CCE922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934-A1BC-4A95-8B83-C98CFEAB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08A-B042-4853-A488-8DA0482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E18-9D17-4B8B-BA62-361E9F3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FFB-69FC-4C53-A680-379B97D9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4A3-F3C9-4AED-BC94-1242593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C4F-0491-44CA-B328-FDBF70F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5CB-D476-4DBB-92A3-ACB2E03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0F6-0D00-4392-A16A-77986D7322F9}" type="datetime">
              <a:rPr b="0" lang="en-US" sz="1200" spc="-1" strike="noStrike">
                <a:solidFill>
                  <a:srgbClr val="898989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CD5-4314-4432-9FFF-09270F1A1783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2560" y="1792440"/>
            <a:ext cx="7785000" cy="199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e6d"/>
                </a:solidFill>
                <a:latin typeface="Gill Sans MT"/>
              </a:rPr>
              <a:t>Which is a better solution for our non-English speaking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" name="Picture 2" descr="C:\Users\Sue\AppData\Local\Microsoft\Windows\Temporary Internet Files\Content.IE5\NX9PQO64\MCj04404240000[1].wmf"/>
          <p:cNvPicPr/>
          <p:nvPr/>
        </p:nvPicPr>
        <p:blipFill>
          <a:blip r:embed="rId2"/>
          <a:stretch/>
        </p:blipFill>
        <p:spPr>
          <a:xfrm>
            <a:off x="304920" y="304920"/>
            <a:ext cx="1827000" cy="150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Sue\AppData\Local\Microsoft\Windows\Temporary Internet Files\Content.IE5\NX9PQO64\MPj04395080000[1].jpg"/>
          <p:cNvPicPr/>
          <p:nvPr/>
        </p:nvPicPr>
        <p:blipFill>
          <a:blip r:embed="rId3"/>
          <a:stretch/>
        </p:blipFill>
        <p:spPr>
          <a:xfrm>
            <a:off x="6934320" y="4952880"/>
            <a:ext cx="1295280" cy="167328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99E-0330-4CC6-B4F6-98A8EAED1AE4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838080" y="60958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usana P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e6d"/>
                </a:solidFill>
                <a:uFillTx/>
                <a:latin typeface="Bookman Old Style"/>
              </a:rPr>
              <a:t>Parental Surve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. strongly agree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2. agree   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. disagree 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4. strongly disag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1. I speak and read in English.                                       1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2. I read to my child.                                                      2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3. I want my child to be taught in his native language.   3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4. I encourage my child to go to the library.                    4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5. I buy books as presents.                                             5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D8C-06AB-4145-8F52-12BD243EA50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Sample Letter of Consen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ar Parent or Guardia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 name is Susana Pinto and I am a graduate student a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rooklyn College. I am currently working on a project to see if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ildren learn to read better using a students native language 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f they do better when solely taught in English. I would like 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ork with your child since they are currently in the ES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gram at their school. This will be a two month project where I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ll work with your child in a group setting . I promise that th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ll not interfere with any of their other school work. Ple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ck the yes or no box and sign your na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 thank you in advanc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Kind Regards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sana Pi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8384-4ADB-42CB-9C0C-C26EC33AF84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2" descr=""/>
          <p:cNvPicPr/>
          <p:nvPr/>
        </p:nvPicPr>
        <p:blipFill>
          <a:blip r:embed="rId1"/>
          <a:stretch/>
        </p:blipFill>
        <p:spPr>
          <a:xfrm>
            <a:off x="878040" y="371520"/>
            <a:ext cx="7613640" cy="547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Sue\AppData\Local\Microsoft\Windows\Temporary Internet Files\Content.IE5\HZQTZ39Q\MPj04394150000[1].jpg"/>
          <p:cNvPicPr/>
          <p:nvPr/>
        </p:nvPicPr>
        <p:blipFill>
          <a:blip r:embed="rId2"/>
          <a:stretch/>
        </p:blipFill>
        <p:spPr>
          <a:xfrm>
            <a:off x="1981080" y="4376880"/>
            <a:ext cx="4114800" cy="248112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CD2E-8F1D-4417-B5BF-AE947E471168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mmersion versus Bilingual Literacy Instruction. Which is a Better Solution?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s is of great interest to me because I came to this country when I was six years old from Portugal and I didn’t know English, so I experienced this dilemma first hand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ith this Action Research Project I intend to see which solution is bet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823-D58D-415D-8FAB-09AB86CC05B7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re is a lot of controversy over which method of instruction is better for English Language Learners (ELL) with regards to Literac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hould schools use the immersion programs where a students native language plays little or no role or should they use bilingual literacy education where instruction is given in the native tongu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01C-F753-453D-B079-685991C29598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O. Daniela Silva\Local Settings\Temporary Internet Files\Content.IE5\SAY16ZD8\MPj04422430000[1].jpg"/>
          <p:cNvPicPr/>
          <p:nvPr/>
        </p:nvPicPr>
        <p:blipFill>
          <a:blip r:embed="rId1"/>
          <a:stretch/>
        </p:blipFill>
        <p:spPr>
          <a:xfrm>
            <a:off x="3429000" y="3772080"/>
            <a:ext cx="2057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</a:t>
            </a: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Review of Literature</a:t>
            </a: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          </a:t>
            </a:r>
            <a:r>
              <a:rPr b="1" lang="en-US" sz="1600" spc="-1" strike="noStrike" u="sng">
                <a:solidFill>
                  <a:srgbClr val="083763"/>
                </a:solidFill>
                <a:uFillTx/>
                <a:latin typeface="Bookman Old Style"/>
              </a:rPr>
              <a:t>PROS</a:t>
            </a: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             </a:t>
            </a: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eachers need to help learners identify skills that can help facilitate their learning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Reye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se Gardner’s multiple intelligence theory to achieve best result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Gardner, 1983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udents must possess both skill and will to read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Wei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rovide learners with new experiences to generate new idea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Reye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o non-English speaking students series texts with pictures is important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Avalo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79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eave politics out of the classroom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Mitchell, 2005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ttention needs to be paid to the professional development of educators – some don’t know how to deal with these students or their parent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Fitzgerald, 2000)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One article stated that researchers found only 17 studies were concerned with educational quality, compared with more than 450 studies examining types of reading program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Hamilton, 2006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aybe  the focus should be on the quality of the education and not the instruction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Shin, 2008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acist and against basic freedom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Mora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421-E613-4CCA-A275-E73B09FD1773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Making Our Own Reading Camp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1920" y="1294920"/>
            <a:ext cx="4343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ncrease the learners’ self-este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ave interesting and manageable reading material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reate awareness by showing them strategies they can use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velop good reading habi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ind on-line technology that will help with this literacy dilemma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s one of my articles stated I want to make the “Reading Camp” fun for both groups. We will use computers for visual aids, make our own board games, have drama activities, and many more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211-E8B9-4527-931A-C35A2A74D590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Documents and Settings\O. Daniela Silva\Local Settings\Temporary Internet Files\Content.IE5\02K1LH0W\MPj04394500000[1].jpg"/>
          <p:cNvPicPr/>
          <p:nvPr/>
        </p:nvPicPr>
        <p:blipFill>
          <a:blip r:embed="rId1"/>
          <a:stretch/>
        </p:blipFill>
        <p:spPr>
          <a:xfrm>
            <a:off x="4648320" y="1911240"/>
            <a:ext cx="40384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 -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mplementing an intensive language learning instructional environment  with English language learners over a two month period will increase their reading skills more so than the group that is being taught in a bi-lingual environment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DF78-C6DE-499E-B206-EC8F9CC49C0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 proposed intervention is to work with tw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grade classrooms in 2 schools (PS X and PS Y). Both are in the Bronx and both have children with the same language issue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y are all Spanish speaking immigrant stud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area that they live in is known to be a low economic are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2303e"/>
                </a:solidFill>
                <a:uFillTx/>
                <a:latin typeface="Bookman Old Style"/>
              </a:rPr>
              <a:t>Instru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rst I will give out consent letters to the principal and parent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se will be in order to introduce myself and get permi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 will use tests,  running records, and surveys to assess the stud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6FA-63C4-48C4-908C-946A6C78EA09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O. Daniela Silva\Local Settings\Temporary Internet Files\Content.IE5\EFZRGKI3\MPj04422140000[1]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elf Assessment Surve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. strongly agree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2. agree   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. disagree 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4. strongly disag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stories.                                                    1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aloud.                                                     2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information books.                                  3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go to the library.                                             4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watch TV better than reading.                         5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comics or magazines.                              6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with the help of an adult.                        7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My parents read to me.                                                8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think reading is hard.                                                9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My teacher gives me interesting things to read.          10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9E7A-1948-49C8-BDD1-B85949EB0AE9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1:00:48Z</dcterms:created>
  <dc:creator>Susana Plass</dc:creator>
  <dc:description/>
  <dc:language>en-US</dc:language>
  <cp:lastModifiedBy>Sue</cp:lastModifiedBy>
  <dcterms:modified xsi:type="dcterms:W3CDTF">2009-12-17T17:00:57Z</dcterms:modified>
  <cp:revision>21</cp:revision>
  <dc:subject/>
  <dc:title>IMMERSION VERSUS BILINGUAL LITERACY INSTRUCTION</dc:title>
</cp:coreProperties>
</file>